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0.wmf" ContentType="image/x-wmf"/>
  <Override PartName="/ppt/media/image25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9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28.png" ContentType="image/png"/>
  <Override PartName="/ppt/media/image5.png" ContentType="image/png"/>
  <Override PartName="/ppt/media/image29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ED5-F742-4706-8463-2E378B70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A7F-7BF4-4D45-8EAC-0D928D5C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54D-0AE9-4C77-BE18-ABA4F949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B55-7327-4713-9E95-B36CD7B2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D094-1286-4877-937E-A18DB1FE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A666-0A7A-4FF3-AC08-34A75DF6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0CD3-3D44-4F12-9B42-4E383C67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C91D-3A0F-4640-9266-CC840125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C9AF-47D7-412B-8335-1DC86308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2BF5-80B8-4B66-84FD-B9381BAC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204-4305-4E02-B0E4-2066AEB8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8994-D225-45E1-9549-4DA6EFA3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A5D8-BC85-419B-91E4-14C2CF252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ookman Old Style"/>
              </a:rPr>
              <a:t>ATP &amp; Energ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Objective 16: Analyze photosynthesis and cellular respiration in terms of how energy is stored, released and transferred within and between thes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synthes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304920" y="1752480"/>
            <a:ext cx="8686800" cy="44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hotosynthe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by which producers conver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su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o chemical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form of glucose (foo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s light energy into stored energy using inorganic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MCj04325890000[1]"/>
          <p:cNvPicPr/>
          <p:nvPr/>
        </p:nvPicPr>
        <p:blipFill>
          <a:blip r:embed="rId1"/>
          <a:stretch/>
        </p:blipFill>
        <p:spPr>
          <a:xfrm>
            <a:off x="3417840" y="3200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Line 5"/>
          <p:cNvSpPr/>
          <p:nvPr/>
        </p:nvSpPr>
        <p:spPr>
          <a:xfrm>
            <a:off x="4648320" y="3746520"/>
            <a:ext cx="167616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MCj03000490000[1]"/>
          <p:cNvPicPr/>
          <p:nvPr/>
        </p:nvPicPr>
        <p:blipFill>
          <a:blip r:embed="rId2"/>
          <a:stretch/>
        </p:blipFill>
        <p:spPr>
          <a:xfrm>
            <a:off x="6411960" y="3056040"/>
            <a:ext cx="17557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259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228600" y="1522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view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1026"/>
          <p:cNvGrpSpPr/>
          <p:nvPr/>
        </p:nvGrpSpPr>
        <p:grpSpPr>
          <a:xfrm>
            <a:off x="752400" y="152280"/>
            <a:ext cx="7053120" cy="3951360"/>
            <a:chOff x="752400" y="152280"/>
            <a:chExt cx="7053120" cy="3951360"/>
          </a:xfrm>
        </p:grpSpPr>
        <p:pic>
          <p:nvPicPr>
            <p:cNvPr id="93" name="Picture 1027" descr=""/>
            <p:cNvPicPr/>
            <p:nvPr/>
          </p:nvPicPr>
          <p:blipFill>
            <a:blip r:embed="rId1"/>
            <a:stretch/>
          </p:blipFill>
          <p:spPr>
            <a:xfrm>
              <a:off x="2555640" y="152280"/>
              <a:ext cx="5249880" cy="395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" name="Group 1028"/>
            <p:cNvGrpSpPr/>
            <p:nvPr/>
          </p:nvGrpSpPr>
          <p:grpSpPr>
            <a:xfrm>
              <a:off x="2197080" y="711000"/>
              <a:ext cx="2031480" cy="406440"/>
              <a:chOff x="2197080" y="711000"/>
              <a:chExt cx="2031480" cy="406440"/>
            </a:xfrm>
          </p:grpSpPr>
          <p:sp>
            <p:nvSpPr>
              <p:cNvPr id="95" name="Line 1029"/>
              <p:cNvSpPr/>
              <p:nvPr/>
            </p:nvSpPr>
            <p:spPr>
              <a:xfrm flipH="1">
                <a:off x="2478600" y="711360"/>
                <a:ext cx="1451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1030"/>
              <p:cNvSpPr/>
              <p:nvPr/>
            </p:nvSpPr>
            <p:spPr>
              <a:xfrm flipH="1">
                <a:off x="2463840" y="1117440"/>
                <a:ext cx="176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1031"/>
              <p:cNvSpPr/>
              <p:nvPr/>
            </p:nvSpPr>
            <p:spPr>
              <a:xfrm flipV="1">
                <a:off x="2463840" y="71100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1032"/>
              <p:cNvSpPr/>
              <p:nvPr/>
            </p:nvSpPr>
            <p:spPr>
              <a:xfrm>
                <a:off x="2197080" y="914400"/>
                <a:ext cx="25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Text Box 1033"/>
            <p:cNvSpPr/>
            <p:nvPr/>
          </p:nvSpPr>
          <p:spPr>
            <a:xfrm>
              <a:off x="752400" y="519120"/>
              <a:ext cx="1493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o outer membra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034"/>
            <p:cNvSpPr/>
            <p:nvPr/>
          </p:nvSpPr>
          <p:spPr>
            <a:xfrm flipH="1">
              <a:off x="2705040" y="2540160"/>
              <a:ext cx="1574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1035"/>
            <p:cNvSpPr/>
            <p:nvPr/>
          </p:nvSpPr>
          <p:spPr>
            <a:xfrm>
              <a:off x="752400" y="2373480"/>
              <a:ext cx="196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ylako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036"/>
            <p:cNvSpPr/>
            <p:nvPr/>
          </p:nvSpPr>
          <p:spPr>
            <a:xfrm>
              <a:off x="752400" y="2879640"/>
              <a:ext cx="30542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1037"/>
          <p:cNvGrpSpPr/>
          <p:nvPr/>
        </p:nvGrpSpPr>
        <p:grpSpPr>
          <a:xfrm>
            <a:off x="1295280" y="2649600"/>
            <a:ext cx="7560720" cy="3841200"/>
            <a:chOff x="1295280" y="2649600"/>
            <a:chExt cx="7560720" cy="3841200"/>
          </a:xfrm>
        </p:grpSpPr>
        <p:pic>
          <p:nvPicPr>
            <p:cNvPr id="104" name="Picture 1038" descr=""/>
            <p:cNvPicPr/>
            <p:nvPr/>
          </p:nvPicPr>
          <p:blipFill>
            <a:blip r:embed="rId2"/>
            <a:stretch/>
          </p:blipFill>
          <p:spPr>
            <a:xfrm>
              <a:off x="3939840" y="4670280"/>
              <a:ext cx="3330720" cy="18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039"/>
            <p:cNvSpPr/>
            <p:nvPr/>
          </p:nvSpPr>
          <p:spPr>
            <a:xfrm>
              <a:off x="4995000" y="4686120"/>
              <a:ext cx="9410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ro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1040"/>
            <p:cNvSpPr/>
            <p:nvPr/>
          </p:nvSpPr>
          <p:spPr>
            <a:xfrm>
              <a:off x="4777920" y="5499000"/>
              <a:ext cx="10447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041"/>
            <p:cNvSpPr/>
            <p:nvPr/>
          </p:nvSpPr>
          <p:spPr>
            <a:xfrm flipV="1">
              <a:off x="5300640" y="5271480"/>
              <a:ext cx="0" cy="25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042"/>
            <p:cNvSpPr/>
            <p:nvPr/>
          </p:nvSpPr>
          <p:spPr>
            <a:xfrm>
              <a:off x="7436160" y="5519520"/>
              <a:ext cx="141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(see next slid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1043"/>
            <p:cNvSpPr/>
            <p:nvPr/>
          </p:nvSpPr>
          <p:spPr>
            <a:xfrm>
              <a:off x="5711760" y="2649600"/>
              <a:ext cx="1536480" cy="888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044"/>
            <p:cNvSpPr/>
            <p:nvPr/>
          </p:nvSpPr>
          <p:spPr>
            <a:xfrm>
              <a:off x="6499080" y="3538440"/>
              <a:ext cx="0" cy="11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1045"/>
            <p:cNvSpPr/>
            <p:nvPr/>
          </p:nvSpPr>
          <p:spPr>
            <a:xfrm flipH="1">
              <a:off x="3692160" y="6268680"/>
              <a:ext cx="49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046"/>
            <p:cNvSpPr/>
            <p:nvPr/>
          </p:nvSpPr>
          <p:spPr>
            <a:xfrm>
              <a:off x="1295280" y="5873400"/>
              <a:ext cx="2446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cked part of  thylakoid membra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Text Box 1049"/>
          <p:cNvSpPr/>
          <p:nvPr/>
        </p:nvSpPr>
        <p:spPr>
          <a:xfrm>
            <a:off x="6172200" y="304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93600" y="3111480"/>
            <a:ext cx="3846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tosynthesis occurs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plant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ht Dependent reaction occurs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ylakoid membr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ht Independent reaction occurs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9360" y="533520"/>
            <a:ext cx="9144000" cy="580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8600" y="0"/>
            <a:ext cx="116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n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828800" y="586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w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838800" y="1981080"/>
            <a:ext cx="146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211080" y="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arbon diox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6706080" y="1828800"/>
            <a:ext cx="169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6935400" y="408636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4262760" y="571500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(metabolic w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2076840" y="5715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4154760" y="14097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3989520" y="2124000"/>
            <a:ext cx="1218600" cy="440640"/>
          </a:xfrm>
          <a:prstGeom prst="rect">
            <a:avLst/>
          </a:prstGeom>
          <a:solidFill>
            <a:srgbClr val="d8eb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P +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4076640" y="29718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3957840" y="3581280"/>
            <a:ext cx="1174320" cy="398880"/>
          </a:xfrm>
          <a:prstGeom prst="rect">
            <a:avLst/>
          </a:prstGeom>
          <a:solidFill>
            <a:srgbClr val="d8eb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P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40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1: The Light Dependent Rea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55440" y="1284120"/>
            <a:ext cx="89362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Harvest light energy and store it in the form of ATP and NADP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Thylakoid (Greek for “bag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Light energy from the sun, Water  (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Energy from the sun is absorbed by chlorophyll pigments and used to excite electr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Excited electrons are used to make energy molecules (NADPH and ATP) for the light independ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is split and the hydrogen ions are used to help make the energy molecules while the oxygen atoms are released as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g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Energy molecules (ATP and NADPH), Oxygen (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553080" y="1905120"/>
            <a:ext cx="188928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943280" y="1000080"/>
            <a:ext cx="52578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228600" y="-152640"/>
            <a:ext cx="952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2: The Light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ent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28520" y="1143000"/>
            <a:ext cx="899172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Use energy molecules from light dependent rxn to build gluco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Stroma of the chloropl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Energy molecules from light dependent rxn and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Carbon fixation-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om the atmosphere is rearranged into 6 molecules of a 3-carbon compound called PG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Reduction- ATP and NADPH from light dependent rxn energize the PGA molecules forming 6 PGAL molecu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 Regeneration- 1 PGAL molecule exits the cycle to eventually become glucose, the other 5 PGAL molecules are recycled in the form of RuB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*It takes two turns of the Calvin cycle to make 1 glucose!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GAL x 2 = gluco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Glucose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235160" y="1033560"/>
            <a:ext cx="66736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synthesis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152280" y="1752480"/>
            <a:ext cx="8839440" cy="24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hyll and other pigments located in the chloroplasts absorb the sun’s energy, which stimulates carbon dioxide and water to react and form glucose and oxy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ergy is stored in the bonds of the glucose.  Organisms must break these bonds (do cellular respiration) to get th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rcRect l="4688" t="43752" r="2344" b="39583"/>
          <a:stretch/>
        </p:blipFill>
        <p:spPr>
          <a:xfrm>
            <a:off x="76320" y="4572000"/>
            <a:ext cx="90676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2"/>
          <p:cNvSpPr/>
          <p:nvPr/>
        </p:nvSpPr>
        <p:spPr>
          <a:xfrm>
            <a:off x="380880" y="3808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s that Affect the Rate of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17400" y="1447920"/>
            <a:ext cx="815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intens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dioxide concentra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731960" y="4664160"/>
            <a:ext cx="59245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10080" y="-223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914400" y="304920"/>
            <a:ext cx="7620120" cy="6057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7467480" y="6094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 hidden="1"/>
          <p:cNvSpPr/>
          <p:nvPr/>
        </p:nvSpPr>
        <p:spPr>
          <a:xfrm>
            <a:off x="4952880" y="2255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934320" y="472428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 hidden="1"/>
          <p:cNvSpPr/>
          <p:nvPr/>
        </p:nvSpPr>
        <p:spPr>
          <a:xfrm>
            <a:off x="380880" y="35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666880" y="2971800"/>
            <a:ext cx="16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ree phosphate grou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8600" y="685800"/>
            <a:ext cx="579132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enosine Triphosphate (AT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◙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of energy that the body can use ($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pictu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685800" y="201924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, like carbon,  are recycled and rearranged into different forms for different purpos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2114640" y="2879640"/>
            <a:ext cx="491472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828800" y="5335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12160" cy="1533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Mammals3"/>
          <p:cNvPicPr/>
          <p:nvPr/>
        </p:nvPicPr>
        <p:blipFill>
          <a:blip r:embed="rId2"/>
          <a:stretch/>
        </p:blipFill>
        <p:spPr>
          <a:xfrm>
            <a:off x="5715000" y="3429000"/>
            <a:ext cx="3124080" cy="2077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fruitbat"/>
          <p:cNvPicPr/>
          <p:nvPr/>
        </p:nvPicPr>
        <p:blipFill>
          <a:blip r:embed="rId3"/>
          <a:stretch/>
        </p:blipFill>
        <p:spPr>
          <a:xfrm>
            <a:off x="3200400" y="44956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22423956"/>
          <p:cNvPicPr/>
          <p:nvPr/>
        </p:nvPicPr>
        <p:blipFill>
          <a:blip r:embed="rId4"/>
          <a:stretch/>
        </p:blipFill>
        <p:spPr>
          <a:xfrm>
            <a:off x="380880" y="3352680"/>
            <a:ext cx="2895840" cy="1933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Helianthus_divaricatus_flowers"/>
          <p:cNvPicPr/>
          <p:nvPr/>
        </p:nvPicPr>
        <p:blipFill>
          <a:blip r:embed="rId5"/>
          <a:stretch/>
        </p:blipFill>
        <p:spPr>
          <a:xfrm>
            <a:off x="3657600" y="2666880"/>
            <a:ext cx="160956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430200"/>
            <a:ext cx="9144000" cy="5997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762120" y="1305000"/>
            <a:ext cx="6973920" cy="5553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784960" y="504720"/>
            <a:ext cx="169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ochond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868000" y="504720"/>
            <a:ext cx="169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ochond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4393440" y="449568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904720" y="449568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33360" y="0"/>
            <a:ext cx="8477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Rectangle 2"/>
          <p:cNvGrpSpPr/>
          <p:nvPr/>
        </p:nvGrpSpPr>
        <p:grpSpPr>
          <a:xfrm>
            <a:off x="689040" y="0"/>
            <a:ext cx="7815240" cy="6248520"/>
            <a:chOff x="689040" y="0"/>
            <a:chExt cx="7815240" cy="6248520"/>
          </a:xfrm>
        </p:grpSpPr>
        <p:pic>
          <p:nvPicPr>
            <p:cNvPr id="162" name="Rectangle 2" descr=""/>
            <p:cNvPicPr/>
            <p:nvPr/>
          </p:nvPicPr>
          <p:blipFill>
            <a:blip r:embed="rId1"/>
            <a:stretch/>
          </p:blipFill>
          <p:spPr>
            <a:xfrm>
              <a:off x="691920" y="0"/>
              <a:ext cx="7810560" cy="62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689040" y="0"/>
              <a:ext cx="7815240" cy="624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36"/>
          <p:cNvGrpSpPr/>
          <p:nvPr/>
        </p:nvGrpSpPr>
        <p:grpSpPr>
          <a:xfrm>
            <a:off x="713520" y="38160"/>
            <a:ext cx="7525080" cy="6060240"/>
            <a:chOff x="713520" y="38160"/>
            <a:chExt cx="7525080" cy="6060240"/>
          </a:xfrm>
        </p:grpSpPr>
        <p:sp>
          <p:nvSpPr>
            <p:cNvPr id="165" name="Text Box 3"/>
            <p:cNvSpPr/>
            <p:nvPr/>
          </p:nvSpPr>
          <p:spPr>
            <a:xfrm>
              <a:off x="713880" y="5076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4"/>
            <p:cNvSpPr/>
            <p:nvPr/>
          </p:nvSpPr>
          <p:spPr>
            <a:xfrm>
              <a:off x="713520" y="1994040"/>
              <a:ext cx="142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5"/>
            <p:cNvSpPr/>
            <p:nvPr/>
          </p:nvSpPr>
          <p:spPr>
            <a:xfrm>
              <a:off x="3805920" y="69696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6"/>
            <p:cNvSpPr/>
            <p:nvPr/>
          </p:nvSpPr>
          <p:spPr>
            <a:xfrm>
              <a:off x="3174840" y="3886200"/>
              <a:ext cx="2775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SPORT PHOSPHORY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7"/>
            <p:cNvSpPr/>
            <p:nvPr/>
          </p:nvSpPr>
          <p:spPr>
            <a:xfrm>
              <a:off x="4714920" y="2971800"/>
              <a:ext cx="1189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7440840" y="31147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7137720" y="41482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0"/>
            <p:cNvSpPr/>
            <p:nvPr/>
          </p:nvSpPr>
          <p:spPr>
            <a:xfrm>
              <a:off x="1066680" y="990720"/>
              <a:ext cx="1525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ergy input t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rt re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1"/>
            <p:cNvSpPr/>
            <p:nvPr/>
          </p:nvSpPr>
          <p:spPr>
            <a:xfrm>
              <a:off x="6202440" y="2093760"/>
              <a:ext cx="662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 C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2"/>
            <p:cNvSpPr/>
            <p:nvPr/>
          </p:nvSpPr>
          <p:spPr>
            <a:xfrm>
              <a:off x="6202440" y="2732040"/>
              <a:ext cx="662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 C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3"/>
            <p:cNvSpPr/>
            <p:nvPr/>
          </p:nvSpPr>
          <p:spPr>
            <a:xfrm>
              <a:off x="7072200" y="3100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4"/>
            <p:cNvSpPr/>
            <p:nvPr/>
          </p:nvSpPr>
          <p:spPr>
            <a:xfrm>
              <a:off x="6670080" y="4133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15"/>
            <p:cNvSpPr/>
            <p:nvPr/>
          </p:nvSpPr>
          <p:spPr>
            <a:xfrm>
              <a:off x="5531040" y="501480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6"/>
            <p:cNvSpPr/>
            <p:nvPr/>
          </p:nvSpPr>
          <p:spPr>
            <a:xfrm>
              <a:off x="2791080" y="229716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 NAD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7"/>
            <p:cNvSpPr/>
            <p:nvPr/>
          </p:nvSpPr>
          <p:spPr>
            <a:xfrm>
              <a:off x="2791080" y="279252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 NAD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18"/>
            <p:cNvSpPr/>
            <p:nvPr/>
          </p:nvSpPr>
          <p:spPr>
            <a:xfrm>
              <a:off x="2789280" y="3173400"/>
              <a:ext cx="888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 FAD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19"/>
            <p:cNvSpPr/>
            <p:nvPr/>
          </p:nvSpPr>
          <p:spPr>
            <a:xfrm>
              <a:off x="2791080" y="161136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 NAD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20"/>
            <p:cNvSpPr/>
            <p:nvPr/>
          </p:nvSpPr>
          <p:spPr>
            <a:xfrm>
              <a:off x="4796280" y="1496880"/>
              <a:ext cx="107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 pyruv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21"/>
            <p:cNvSpPr/>
            <p:nvPr/>
          </p:nvSpPr>
          <p:spPr>
            <a:xfrm>
              <a:off x="3737520" y="3033720"/>
              <a:ext cx="7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22"/>
            <p:cNvSpPr/>
            <p:nvPr/>
          </p:nvSpPr>
          <p:spPr>
            <a:xfrm>
              <a:off x="3884760" y="5450040"/>
              <a:ext cx="11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23"/>
            <p:cNvSpPr/>
            <p:nvPr/>
          </p:nvSpPr>
          <p:spPr>
            <a:xfrm>
              <a:off x="7117560" y="123660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2 ATP 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24"/>
            <p:cNvSpPr/>
            <p:nvPr/>
          </p:nvSpPr>
          <p:spPr>
            <a:xfrm>
              <a:off x="4054320" y="38160"/>
              <a:ext cx="8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25"/>
            <p:cNvSpPr/>
            <p:nvPr/>
          </p:nvSpPr>
          <p:spPr>
            <a:xfrm rot="5400000">
              <a:off x="7308720" y="4959360"/>
              <a:ext cx="152640" cy="1193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0960 h 1193760"/>
                <a:gd name="textAreaBottom" fmla="*/ 1162800 h 11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26"/>
            <p:cNvSpPr/>
            <p:nvPr/>
          </p:nvSpPr>
          <p:spPr>
            <a:xfrm>
              <a:off x="4951800" y="5791320"/>
              <a:ext cx="30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YPICAL ENERGY YIELD:  36 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27"/>
            <p:cNvSpPr/>
            <p:nvPr/>
          </p:nvSpPr>
          <p:spPr>
            <a:xfrm>
              <a:off x="2135160" y="3833640"/>
              <a:ext cx="32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28"/>
            <p:cNvSpPr/>
            <p:nvPr/>
          </p:nvSpPr>
          <p:spPr>
            <a:xfrm>
              <a:off x="3737520" y="2639880"/>
              <a:ext cx="7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29"/>
            <p:cNvSpPr/>
            <p:nvPr/>
          </p:nvSpPr>
          <p:spPr>
            <a:xfrm>
              <a:off x="3736800" y="2157480"/>
              <a:ext cx="77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+ 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30"/>
            <p:cNvSpPr/>
            <p:nvPr/>
          </p:nvSpPr>
          <p:spPr>
            <a:xfrm>
              <a:off x="7409160" y="5047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31"/>
            <p:cNvSpPr/>
            <p:nvPr/>
          </p:nvSpPr>
          <p:spPr>
            <a:xfrm>
              <a:off x="4437000" y="50022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32"/>
            <p:cNvSpPr/>
            <p:nvPr/>
          </p:nvSpPr>
          <p:spPr>
            <a:xfrm>
              <a:off x="3317760" y="1150920"/>
              <a:ext cx="77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+ 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33"/>
            <p:cNvSpPr/>
            <p:nvPr/>
          </p:nvSpPr>
          <p:spPr>
            <a:xfrm>
              <a:off x="1554480" y="5810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34"/>
            <p:cNvSpPr/>
            <p:nvPr/>
          </p:nvSpPr>
          <p:spPr>
            <a:xfrm>
              <a:off x="1272960" y="581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704960"/>
            <a:ext cx="9144000" cy="344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enosine Triphosphate (AT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energy necessary to get a lot of reactions started (activation ener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nosine = adenine + rib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hosphate= 3 phosph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tp"/>
          <p:cNvPicPr/>
          <p:nvPr/>
        </p:nvPicPr>
        <p:blipFill>
          <a:blip r:embed="rId1"/>
          <a:stretch/>
        </p:blipFill>
        <p:spPr>
          <a:xfrm>
            <a:off x="4648320" y="4616280"/>
            <a:ext cx="43434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640" y="1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P (adenosine triphosphat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molecule that temporarily stores energy released from glucose and carries it to other parts of the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3 bonds that store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phosphate bond is broken, energy is releas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ergo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phosphate bond is made, energy is stor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ndergo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048120" y="4038480"/>
            <a:ext cx="41353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0492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P-ADP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7" descr="atp_cycle"/>
          <p:cNvPicPr/>
          <p:nvPr/>
        </p:nvPicPr>
        <p:blipFill>
          <a:blip r:embed="rId1"/>
          <a:stretch/>
        </p:blipFill>
        <p:spPr>
          <a:xfrm>
            <a:off x="1752480" y="1295280"/>
            <a:ext cx="5372280" cy="50738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7162920" y="3581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y released for cell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0" y="35053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y gained from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1676520" y="1828800"/>
            <a:ext cx="16002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2895480" y="1905120"/>
            <a:ext cx="7621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1905120" y="4419720"/>
            <a:ext cx="17524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3429000" y="480060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o how do plants make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2695680"/>
            <a:ext cx="9144000" cy="1466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895480" y="914400"/>
            <a:ext cx="5612040" cy="594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1600200" y="533520"/>
            <a:ext cx="7543800" cy="5351400"/>
            <a:chOff x="1600200" y="533520"/>
            <a:chExt cx="7543800" cy="5351400"/>
          </a:xfrm>
        </p:grpSpPr>
        <p:sp>
          <p:nvSpPr>
            <p:cNvPr id="71" name="Rectangle 5"/>
            <p:cNvSpPr/>
            <p:nvPr/>
          </p:nvSpPr>
          <p:spPr>
            <a:xfrm>
              <a:off x="5106240" y="533520"/>
              <a:ext cx="15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NERGY 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7391520" y="2590560"/>
              <a:ext cx="1752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gan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mpounds, oxy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4875840" y="1752480"/>
              <a:ext cx="206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hotosynthe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4952880" y="4267080"/>
              <a:ext cx="198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bic respi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1600200" y="5486040"/>
              <a:ext cx="186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NERGY 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"/>
            <p:cNvSpPr/>
            <p:nvPr/>
          </p:nvSpPr>
          <p:spPr>
            <a:xfrm>
              <a:off x="2209680" y="2971440"/>
              <a:ext cx="1752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rb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oxide, wa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Text Box 12"/>
          <p:cNvSpPr/>
          <p:nvPr/>
        </p:nvSpPr>
        <p:spPr>
          <a:xfrm>
            <a:off x="0" y="22860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erview:  Photosynthesis and Cellular 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819520" y="5335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lupine-plants_3909"/>
          <p:cNvPicPr/>
          <p:nvPr/>
        </p:nvPicPr>
        <p:blipFill>
          <a:blip r:embed="rId1"/>
          <a:stretch/>
        </p:blipFill>
        <p:spPr>
          <a:xfrm>
            <a:off x="4572000" y="3733920"/>
            <a:ext cx="4267080" cy="2844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-76320" y="3505320"/>
            <a:ext cx="403884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ct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dioxide – 6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– 6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–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– 6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2"/>
          <a:srcRect l="4688" t="43752" r="2344" b="39583"/>
          <a:stretch/>
        </p:blipFill>
        <p:spPr>
          <a:xfrm>
            <a:off x="63360" y="1800360"/>
            <a:ext cx="90680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457200" y="1905120"/>
            <a:ext cx="830592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Things Necessa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lorophy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ght-capturing pigment found in the chloroplast that absorbs all wavelengths (colors) of light except green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nligh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trophs need light energy (sunlight) to transform reactants into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zym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zymes are needed to catalyze the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20:44:41Z</dcterms:created>
  <dc:creator>Zebulon Holsopple</dc:creator>
  <dc:description/>
  <cp:keywords/>
  <dc:language>en-US</dc:language>
  <cp:lastModifiedBy>Geneva Jost</cp:lastModifiedBy>
  <dcterms:modified xsi:type="dcterms:W3CDTF">2017-05-01T11:49:43Z</dcterms:modified>
  <cp:revision>27</cp:revision>
  <dc:subject>Biology Honors</dc:subject>
  <dc:title>4.2.1_Notes_ATP_Energy</dc:title>
</cp:coreProperties>
</file>